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26EC-5A64-4BA0-BCDF-C7728CACA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55DE-7F61-4A00-9CCA-EC3533E36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C09D4-B95C-4C9A-8A0B-7277E27A6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5C7F5-020E-49FC-8550-2CC0C4ECF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BD953-12CF-4721-8752-2417D1D68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EEACC-A68B-4982-B4C9-76E3630BC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75F86-96BB-4062-B3FB-DC1427609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7D2FC-CE9D-4FF6-BCA5-45EF1E304B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5FA4-F16A-4FF6-9882-1333332643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C19F3-4436-4CB5-A9CC-A514A6AA5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E589-A360-43F4-BEB8-5265FF3D2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B1E1C-9DF9-4B9D-A6D8-6348CFF3F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53E-482F-452C-82A8-F2993A3A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7F2-9DF2-4717-92B0-E3FB6A1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485-1EEA-49DC-B07C-B86BD8C0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952-8DC6-4CB1-9034-A0335EAC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0D9-411E-4D20-A9CB-F4E503E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19D-829A-4D34-AABE-B356FC2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9A6-78DA-4183-A899-F66E9B65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E6D-EF10-4365-8CFC-8D8F61D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8CF-7BD9-45EB-BA70-B02B842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634-D3DE-40DA-BB08-F0892AF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58F-D00C-4ADF-B91B-8D03D3C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498-6078-4041-B16E-010B437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E1992A-CCFD-433B-AF00-5E0B5BB9138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educared.org.ar/biblioteca/guiadeletras/images/conde_lucanor.jpg&amp;imgrefurl=http://www.educared.org.ar/biblioteca/guiadeletras/%3Fp%3D521&amp;usg=__VUFw6R5GdBHqsLd08--Tjdk_kns=&amp;h=203&amp;w=170&amp;sz=37&amp;hl=es&amp;start=3&amp;itbs=1&amp;tbnid=eyl832dP7CCNmM:&amp;tbnh=105&amp;tbnw=88&amp;prev=/images%3Fq%3DEL%2BCONDE%2BLUCANOR%26hl%3Des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entros5.pntic.mec.es/ies.conde.lucanor/p2_htm1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istoriadoreshistericos.files.wordpress.com/2009/08/grande_e_general_estoria_cc3b3dice_del_escorial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hn/imgres?imgurl=http://bp2.blogger.com/_lQvWWxpMCms/RxGFm5ck1UI/AAAAAAAAAB4/uOQhmuMCZLs/s400/alfonso10castile.jpg&amp;imgrefurl=http://www.blogger.com/feeds/3255060644366133601/posts/default&amp;usg=__dR5jSStCB17quNJjB9TImgPf8SU=&amp;h=235&amp;w=400&amp;sz=50&amp;hl=es&amp;start=49&amp;um=1&amp;itbs=1&amp;tbnid=pba_Lk4HdgwjkM:&amp;tbnh=73&amp;tbnw=124&amp;prev=/images%3Fq%3DLIBRO%2BDEL%2BCABALLERO%2BY%2BEL%2BESCUEDERO%2Bde%2Bdon%2BJuan%2BManuel%26start%3D40%26um%3D1%26hl%3Des%26lr%3D%26sa%3DN%26rlz%3D1W1ADRA_en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79280" y="533520"/>
            <a:ext cx="41403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ITERATURA MEDIEV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iglo XIV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 Juan Manu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de Luca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0000" y="1260360"/>
            <a:ext cx="418140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39640" y="58680"/>
            <a:ext cx="431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51 "enxiemplos" o apólogos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latos que contienen una lección moral o filosófica aplicables a las persona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. Un joven señor feudal, el conde Lucanor, consulta a su ayo ante los muy diversos problemas que se le plantean en el gobierno de sus est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. Patronio le responde con un cuento o ejemplo alusivo al problema planteado y deduce una enseñanza mor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3. Se dice que el conde la aplica y que le va bie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4. Don Juan Manuel resume la moraleja en un pareado que remata el enxiemp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859280" y="1079640"/>
            <a:ext cx="4140360" cy="55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859280" y="0"/>
            <a:ext cx="414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219640" y="5940360"/>
            <a:ext cx="360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Obra cumbre de la narrativa en prosa del siglo XI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959280" y="0"/>
            <a:ext cx="468000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liter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árabes introdujeron en la Península Ibérica una tradición de cuentos didáctic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olección más famosa 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mil y una no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n que Sheherazade, para salvar la vida, le cuenta una historia cada noche al sultán, pero no la termina hasta la noche siguente, cuando empieza una historia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3622680" cy="45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79280" y="179280"/>
            <a:ext cx="575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liter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il y una no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e las obras maestros de la literatura ára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940360" y="150840"/>
            <a:ext cx="295272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9280" y="2160720"/>
            <a:ext cx="57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la, sultán de Persia decide casarse cada noche con una mujer diferente y matarla al día siguiente para vengarse de la infidelidad de su esp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4456080"/>
            <a:ext cx="8847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ando se casa con Schehrazade, ésta se inventa un  plan para salvar su v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4360" y="5400720"/>
            <a:ext cx="899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a noche, ella le cuenta una historia diferente al sultán que no termi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ta la noche siguente, cuando empieza una historia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79280" y="0"/>
            <a:ext cx="450072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l árabe derivan las dos primeras colecciones de cuentos medievales que se traducen en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cuela de Traductores de Toled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/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Calila y Dimn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h.1251) refunde relatos d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nchatat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inicia con la historia de los lobos Calila y Dim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último presenta al rey león el buey Sençeb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ero, envidioso de este cortesano, conspira hasta hacer que el propio rey lo ma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1484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Calila y Dim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http://realidadliteral.net/foto-calila-e-dimna2.jpg"/>
          <p:cNvPicPr/>
          <p:nvPr/>
        </p:nvPicPr>
        <p:blipFill>
          <a:blip r:embed="rId1"/>
          <a:stretch/>
        </p:blipFill>
        <p:spPr>
          <a:xfrm>
            <a:off x="5486400" y="1219320"/>
            <a:ext cx="3352680" cy="5181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99072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scubierta su traición, Calila muere de vergüenza y Dimna, ajustici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emás capítulos -casi veinte- narran fábulas de animales y personas, entreveradas de sentencias, incluyendo otra versión breve de Calila y Dimna, en que el lobo resulta inocente, siempre en el marco narrativo del diálogo entre el filósofo y el re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91440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Sendebar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Libro de los engaños de las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144792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mbién del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Panchatant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deudor el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Sendebar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Libro de los engaños de las mujere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h.1253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sarrolla una variante del episodio bíblico de la mujer de Putifa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 Infante, hijo único del rey Alcos de Judea, debe guardar silencio durante siete días, por consejo de su preceptor Çendube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 rechazar las proposiciones deshonestas de su madrastra, ella, airada, le acusa de haber intentado forzar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http://www.librerialuces.com/fotos/9788449320095.jpg"/>
          <p:cNvPicPr/>
          <p:nvPr/>
        </p:nvPicPr>
        <p:blipFill>
          <a:blip r:embed="rId1"/>
          <a:stretch/>
        </p:blipFill>
        <p:spPr>
          <a:xfrm>
            <a:off x="5867280" y="1447920"/>
            <a:ext cx="304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360360"/>
            <a:ext cx="52196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asta el séptimo día, se suceden los cuentos de los privados y la madrastra para perdonar o condenar al Infante, que, al día siguiente, remata con su explicación un total de veintitrés cuentos de tradición oriental y occidental. Finalmente, vive el Infante y muere la madras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514840" y="720720"/>
            <a:ext cx="3305160" cy="4562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580000" y="5580000"/>
            <a:ext cx="3240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omic Sans MS"/>
              </a:rPr>
              <a:t>Inicio del Sendeba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990720" y="304920"/>
            <a:ext cx="5257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ra forma que tomaba la colección de cuentos en la Edad Media era la de ejemplos o consejos, y ésta es la que sigue Juan Manuel 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conde Lucanor o Libro de Patron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335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190656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23590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659640" y="155520"/>
            <a:ext cx="2174760" cy="362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720720" y="3476520"/>
            <a:ext cx="1979640" cy="282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2280" y="1143000"/>
            <a:ext cx="6705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"El conde Lucanor" es un conjunto de cu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Conde normalmente tiene un problema o duda y pregunta a su ayo Patronio la solución a ese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atronio lo que hace es responder mediante un cuento del cual se extrae una moraleja en verso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t0.gstatic.com/images?q=tbn:eyl832dP7CCNmM:http://www.educared.org.ar/biblioteca/guiadeletras/images/conde_lucan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676520"/>
            <a:ext cx="2590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2280" y="1143000"/>
            <a:ext cx="6705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s temas son muy variados y  están presentes en la obra todos los estados y estratos sociales - ricos y pobres, nobles y plebeyos, mercaderes, frailes, burgueses y prel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 ello don Juan Manuel nos muestra la realidad española de la época en toda su riqueza y complejidad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38920" y="1828800"/>
            <a:ext cx="230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200400" y="1260360"/>
            <a:ext cx="54403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90720" y="179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n Juan Manuel (1282-134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03640" y="1447920"/>
            <a:ext cx="5940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ra sobrino de Alfonso X el Sabio y nieto de Fernando III el Sa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ue instruido en el conocimiento de las artes marciales, del latín y de la historia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tervino activamente en las luchas nobiliarias durante la minoría de edad de Fernando IV y Alfonso X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76720" y="609480"/>
            <a:ext cx="4140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96920" y="1440000"/>
            <a:ext cx="2684520" cy="485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066680"/>
            <a:ext cx="853416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 Juan Manuel se inspira por un lado en los hechos históricos y folclóricos de su 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mbién lo hace en la tradición árabe y greco-latina en la tradición de Fedro y Eso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entos tradicionales árabes y de la tradición hind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tradición eclesiástica (relatos bíblicos, en los padres de la Igle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ónicas, cuentos populares, relatos orales de sus sirvientes judíos y moriscos y cuentecillos morales utilizados para sermones eclesiás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990720"/>
            <a:ext cx="56386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STI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recreación de un personaje central de los cuentos ya hay una innovación importan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ientras que en los protagonistas de las demás colecciones de cuentos eran personajes tipo, planos, sin matices, que no evolucionaban representado una virtud o un d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 Juan Manuel intenta convertir esos personajes en seres parecidos a los reales, los human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http://t3.gstatic.com/images?q=tbn:6gdbEpSvvNiYYM:http://www.rinconcastellano.com/images/img_rrcc.jpg"/>
          <p:cNvPicPr/>
          <p:nvPr/>
        </p:nvPicPr>
        <p:blipFill>
          <a:blip r:embed="rId1"/>
          <a:stretch/>
        </p:blipFill>
        <p:spPr>
          <a:xfrm>
            <a:off x="5791320" y="1447920"/>
            <a:ext cx="3200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09480" y="1066680"/>
            <a:ext cx="465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Ver imagen en tamaño completo"/>
          <p:cNvPicPr/>
          <p:nvPr/>
        </p:nvPicPr>
        <p:blipFill>
          <a:blip r:embed="rId1"/>
          <a:stretch/>
        </p:blipFill>
        <p:spPr>
          <a:xfrm>
            <a:off x="5943600" y="1523880"/>
            <a:ext cx="29718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228600" y="1523880"/>
            <a:ext cx="563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Juega con la anécdota y los personajes, ya que para que un cuento sea efectivo y enseñe, la persona que lo escucha tiene que creérselo y que resulte verosímil y para eso hay que mimetizar (imitar) la realidad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) Describe personajes típicos de la España del siglo XIV (vestimentas, detalles de sus acciones, motivaciones, etc…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0360" y="404640"/>
            <a:ext cx="4657680" cy="571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819760" y="1566720"/>
            <a:ext cx="3000240" cy="3834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419640" y="6292800"/>
            <a:ext cx="5040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ccff"/>
                </a:solidFill>
                <a:latin typeface="Times New Roman"/>
              </a:rPr>
              <a:t>http://www.authorstream.com/User-Presentations/sraward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ccff"/>
                </a:solidFill>
                <a:latin typeface="Times New Roman"/>
              </a:rPr>
              <a:t>http://www.rinconcastellano.com/edadmedia/condelucanor.htm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940360" y="1260360"/>
            <a:ext cx="28796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http://www.spanisharts.com/books/literature/alfonsox.htm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99072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no es más (ni menos) que un conjunto d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ent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opilados con una fina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idáctic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ilo conduct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la relación entre el conde Lucanor y su criado-preceptor Patr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odas las narraciones siguen la mism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tructu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conde Lucanor plantea a Patronio u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atronio responde que sobre el mismo tema conoce un ejemplo o cu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rración del 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señanza que se deriva de ese 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dice muy brevemente que el conde puso en práctica el consejo y le fue muy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parición de don Juan como personaj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9072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aleja donde se resume la enseñanz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no es más (ni menos) que un conjunto d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ent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opilados con una fina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idáctic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ilo conduct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la relación entre el conde Lucanor y su criado-preceptor Patr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Conde Lucanor es importante porque supon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imera prosa narrativ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autor en castellan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09480" y="152388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Se puede decir que Don Juan Manuel es el primer autor español que tiene un verdadero interés intelectual, de saciar su curiosidad por aprender. Y esto no sólo se ve en su obra, en su literatura, en su retórica, sino tiene interés de que su obra permanezca para la poster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52280" y="129528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lideshare.net/CCBB/don-juan-manuel-el-conde-luca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28600" y="264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zonaforo.meristation.com/foros/viewtopic.php?t=1419035&amp;sid=750e700537aa7df5229119f345ae71c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69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04920" y="1143000"/>
            <a:ext cx="8534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tre lo que expresa en su obra literaria y las intrigas políticas que vivió intensamente se manifiesta una fuerte contradi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trasta a su vez el orgullo que sentía por su linaje y de su poderío social y económico con la humildad que, como escritor, manifiesta en algunas ocas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articipa valientemente en batallas contra los moros y en 1348 muere y es enterrado en el monasterio de Peñafiel (Valladoli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52280" y="990720"/>
            <a:ext cx="6400800" cy="77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ñor de Peñafiel, es llamado "Infante" porque era hijo 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mano de Alfonso X "El Sabio"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ustre personaje e insigne escritor español nacido en Escalona (1282), fallecido en Córdoba (1348) y enterrado en Peñaf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mbre de letras y de armas que manejó con tanta habilidad la pluma como la espada.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880"/>
            <a:ext cx="281952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4343400" y="5867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centros5.pntic.mec.es/ies.conde.lucanor/p2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3059280" y="0"/>
            <a:ext cx="6083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on Juan Manuel es un signo más de la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ransformación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que se estaba produciendo en el siglo XIV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abandonar la aristocracia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u aislamiento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cultu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y hacerse cortesana y cul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saparece la diferenciación ent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caballer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- hombre de armas - y el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lérig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- hombre de letras. Ambas actividades combinadas se dan en la persona de don Juan Manue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60360" y="1236600"/>
            <a:ext cx="2490840" cy="398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243000"/>
            <a:ext cx="9144000" cy="89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on Juan Manuel proporci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uchos datos biográficos en sus obr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uvo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onciencia literari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sumió plenamente la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utorí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de sus obr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ara evitar que se le atribuyera algo que podía obedecer a ignorancia o a incuria de copistas apresurados, depositó sus manuscritos en el monasterio de Peñaf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 LITER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838080"/>
            <a:ext cx="85345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tenece a la tradición literaria didáctico-moralizante de la Edad Media: pretende educar y moralizar de una manera agradable, es decir,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señar deleitand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obra más importante de este autor es el "Libro de los Ejemplos del Conde Lucanor", llamado comúnmente "El Conde Lucanor", escrito en 1335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S LITERAR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838080"/>
            <a:ext cx="6781680" cy="86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Otras obras destacadas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bro de los est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: Hace un análisis de los estados de la sociedad (clero, nobleza, campesinos) y lo divide en dos partes: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a) En la primera es de carácter más novelesco y entrona con el “Barlaam y Josafat” que es un libro de cuentos de la época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b) La segunda que es de carácter didáctica y pretende enseñar cómo se debe vivir en cada uno de los estados de la sociedad medie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í cada uno debe aceptar el estado que le ha tocado vivir, y vivir de manera honrada y honesta respetando las leyes para lograr 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914400"/>
            <a:ext cx="228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S LITERAR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143000"/>
            <a:ext cx="50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o de la caz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 libro sobre técnicas de caza medieval. Contiene un tratado sobre aves de cetrería aptas para la caza (por ejemplo el azor). Se basa en textos elaborados por el taller alfonsí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http://endrina.files.wordpress.com/2008/04/baudelio-berlanga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620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228600" y="4114800"/>
            <a:ext cx="487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“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o del cavallero y del escude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”: Se sirve del método de la pregunta-respuesta donde el escudero (aspirante al caballero) pregunta al caballero sobre distintas mate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http://t3.gstatic.com/images?q=tbn:pba_Lk4HdgwjkM:http://bp2.blogger.com/_lQvWWxpMCms/RxGFm5ck1UI/AAAAAAAAAB4/uOQhmuMCZLs/s400/alfonso10cast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6576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21:40:15Z</dcterms:created>
  <dc:creator>Ruth Ward</dc:creator>
  <dc:description/>
  <dc:language>en-US</dc:language>
  <cp:lastModifiedBy>Mami</cp:lastModifiedBy>
  <dcterms:modified xsi:type="dcterms:W3CDTF">2010-03-30T21:43:38Z</dcterms:modified>
  <cp:revision>91</cp:revision>
  <dc:subject/>
  <dc:title>PowerPoint Presentation</dc:title>
</cp:coreProperties>
</file>